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9.pct" ContentType="image/x-pict"/>
  <Override PartName="/ppt/media/image3.wmf" ContentType="image/x-wmf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7.png" ContentType="image/png"/>
  <Override PartName="/ppt/media/image15.wmf" ContentType="image/x-wmf"/>
  <Override PartName="/ppt/media/image18.pct" ContentType="image/x-pict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7F3C-BBB8-4551-933B-580F7F6C9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C2EF-EA52-411B-B01D-42F1C20ADE81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  Rhyme Scheme group 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780B-8677-4020-921D-A4BF6602EDB6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  Alliteration group 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571E-F2F5-4259-994E-2CF932976D5C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  Rhyme group 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B01-E427-471B-8F24-376C0F55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FA18-362E-40E3-8B51-FE3F63DD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7F0-94E2-4917-B18B-F1785D9C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69BC-2F97-419A-966C-F9D93B7E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AC2C-BEF8-48E0-9EC5-5BAABF60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E902-3099-424C-BEFE-283B4865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AA16-8F61-4EC0-BE17-4E5FD1E3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DB60-FCB9-44E4-850E-24AE9155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0852-5CD9-4736-A6E9-0CD9D00D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2AF1-FFBC-4595-9FA0-0F959175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90BF-25D4-4E35-AB2B-44E1480B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5275-7B40-4C94-B052-FA3053E5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26F9-1697-48AD-BE3D-02613A32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2524-A08B-4297-98B5-3BE51A2B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A051-AD05-4C2A-B405-C57A0D5A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CD2E-AC06-4679-A896-741358B2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F2C0-873C-4AB7-A100-0CF58973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2F8-23C3-4BB1-B020-3EE91E36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DAA-9D68-41F0-B252-25435A3A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8FE-A2A4-4099-9715-CA2EBB87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A2E6-804E-4F39-9AE5-EC0F6C6F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EB6-1B3C-4D3D-AD6D-BA6EDC2A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A86-93A1-4AA4-9893-0630AC87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F29E-00CF-477B-B8D0-41E0896C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92D9-1EFD-4398-AD17-31FBD914BFA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743D-6CD5-484D-A988-E1CC0D73BE3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ct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OET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98" name="Picture 4" descr="C:\Program Files\Common Files\Microsoft Shared\Clipart\cagcat50\NA01062_.wmf"/>
          <p:cNvPicPr/>
          <p:nvPr/>
        </p:nvPicPr>
        <p:blipFill>
          <a:blip r:embed="rId1"/>
          <a:stretch/>
        </p:blipFill>
        <p:spPr>
          <a:xfrm>
            <a:off x="1981080" y="1752480"/>
            <a:ext cx="54864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TERNAL RHY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word inside a line rhymes with another word on the same lin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nce upon a midnight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dreary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, while I pondered weak and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weary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From “The Raven”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by Edgar Allan Po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AR RHY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.k.a  imperfect rhyme, close rhym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words share EITHER the same vowel or consonant sound BUT NOT BOTH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O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LO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fferent vowel sounds (long “o” and “oo” sound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hare the same consonant soun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HYME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 rhyme scheme is a pattern of rhyme (usually end rhyme, but not always)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e the letters of the alphabet to represent sounds to be able to visually “see” the pattern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******************************************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n Your Own!  </a:t>
            </a:r>
            <a:r>
              <a:rPr b="0" lang="en-US" sz="2800" spc="-1" strike="noStrike">
                <a:solidFill>
                  <a:srgbClr val="402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ry and figure out the rhyme scheme in the sample poem.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AMPLE RHYME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64767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Germ   by Ogden Nash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 mighty creature is the g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erm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ough smaller than the pachyd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erm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is customary dwelling pl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ac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deep within the human r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ace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is childish pride he often pl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eas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y giving people strange dis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eases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o you, my poppet, feel inf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irm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probably contain a g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erm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7086600" y="2514600"/>
            <a:ext cx="1143000" cy="40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NSONANC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milar to alliteration EXCEPT . . 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repeated consonant sounds can be anywhere in the wor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 “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lken,</a:t>
            </a:r>
            <a:r>
              <a:rPr b="0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d, un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rtain, ru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ling . . “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SSONANC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peated VOWEL sounds in a line or lines of poetry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(Often creates near rhyme.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ak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at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a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(All share the long “a” sound.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SSONANCE cont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SSONANC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low the low gradual moan came in the snowing.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John Masefiel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hall ever medicine thee to that sweet sleep.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- William Shakespear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OME TYPES OF POETRY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E WILL BE STUDY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86200" y="3581280"/>
            <a:ext cx="16765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YRIC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short poem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ually written in first person point of view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presses an emotion or an idea or describes a scen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o not tell a story and are often music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077320" y="5486400"/>
            <a:ext cx="666720" cy="984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3"/>
          <a:stretch/>
        </p:blipFill>
        <p:spPr>
          <a:xfrm>
            <a:off x="3733920" y="4876920"/>
            <a:ext cx="173340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AIKU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 Japanese poem written in three line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ive Syllab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ven Syllab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ive Syllab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077320" y="5486400"/>
            <a:ext cx="666720" cy="9842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419360" y="18288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n old silent pond . . 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 frog jumps into the pond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plash!  Silence agai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OET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73120" y="1828800"/>
            <a:ext cx="284328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type of literature that expresses ideas, feelings, or tells a story  in a specific form (usually using lines and stanzas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CINQUAIN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 five line poem containing 22 syllab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wo Syllab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ur Syllab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ix Syllab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ight Syllab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wo Syllables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19360" y="18288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ow frai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bove the bul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f crashing water hang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utumnal, evanescent, wa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moo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077320" y="54864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96633"/>
                </a:solidFill>
                <a:latin typeface="Times New Roman"/>
              </a:rPr>
              <a:t>SHAKESPEAREAN SONNET</a:t>
            </a:r>
            <a:endParaRPr b="0" lang="en-US" sz="43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A fourteen line poem with a specific rhyme scheme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The poem is written in three quatrains and ends with a couplet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The rhyme scheme i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bab   cdcd   efef   g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0" y="18288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Shall I compare thee to a summer’s day?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Thou art more lovely and more temperate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Rough winds do shake the darling buds of May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And summer’s lease hath all too short a date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Sometimes too hot the eye of heaven shines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And often is his gold complexion dimmed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And every fair from fair sometimes declines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By chance or nature’s changing course untrimmed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But thy eternal summer shall not fade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Nor lose possession of that fair thou ow’st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Nor shall Death brag thou wanderest in his shade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When in eternal lines to time thou grow’st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So long as men can breathe or eyes can see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So long lives this, and this gives life to thee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077320" y="54864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RRATIVE POEM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 poem that tells a story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enerally longer than the lyric styles of poetry because the poet needs to establish characters and a plot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xamples of Narrative Poems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Raven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Highwayman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sey at the Bat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Walrus and the Carpenter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NCRETE POEM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 concrete poems, the words are arranged to create a picture that relates to the content of the poem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Poetr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Is like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Flames,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Which ar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wift and elusiv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Dodging realiza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parks, like words on th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Paper, leap and dance in th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Flickering firelight.  The fier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ongues, formless and shifting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hapes, tease the imagination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Yet for those who see,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hrough their mind’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Eye, they bur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Up the page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FREE VERSE POET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nlike metered poetry, free verse poetry does NOT have any repeating patterns of stressed and unstressed syllable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oes NOT have rhym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ree verse poetry is very conversational - sounds like someone talking with you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 more modern type of poetry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LANK VERSE POET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ritten in lines of iambic pentameter, but does NOT use end rhym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ambic Pentameter is an unstressed syllable followed by a stressed syllable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rom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Julius Ceas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owards die many times before their deaths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 valiant never taste of death but onc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Of all the wonders that I yet have heard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It seems to me most strange that men should fear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eing that death, a necessary end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ill come when it will com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61920" y="762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FIGURATIVE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ANGUAGE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nd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OETIC DEVIC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62520" y="3962520"/>
            <a:ext cx="1676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IMIL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comparison of two things using “like” or “as”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he is as beautiful as a sunrise.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66720" cy="984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C:\Program Files\Microsoft Office\Clipart\standard\stddir2\BD08078_.WMF"/>
          <p:cNvPicPr/>
          <p:nvPr/>
        </p:nvPicPr>
        <p:blipFill>
          <a:blip r:embed="rId2"/>
          <a:stretch/>
        </p:blipFill>
        <p:spPr>
          <a:xfrm>
            <a:off x="3733920" y="4648320"/>
            <a:ext cx="2133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ETAPHO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direct comparison of two unlike th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ll the world’s a stage, and we are merely players.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- William Shakespear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66720" cy="984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C:\Program Files\Microsoft Office\Clipart\standard\stddir1\BD05103_.WMF"/>
          <p:cNvPicPr/>
          <p:nvPr/>
        </p:nvPicPr>
        <p:blipFill>
          <a:blip r:embed="rId2"/>
          <a:stretch/>
        </p:blipFill>
        <p:spPr>
          <a:xfrm>
            <a:off x="1600200" y="4572000"/>
            <a:ext cx="2666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TENDED METAPHO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A comparison between two unlike things that continues throughout a series of sentences in a paragraph or lines in a poem. An extended metaphor may go on for several lines or possible the entire length of a work. The extended metaphor may act as a central theme, for example where it is used as the primary vehicle of a poem and is used repeatedly and in different forms.                        </a:t>
            </a: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“Hope”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by Emily Dickens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Hope is the thing with feathers 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                                 That perches in the soul,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 And sings the tune--without the words, And never stops at all, 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And sweetest in the gale is heard; And sore must be the storm That could abash the little bird That kept so many warm. 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I've heard it in the chillest land, And on the strangest sea; Yet, never, in extremity,                                       It asked a crumb of me.     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Calisto MT"/>
                <a:ea typeface="Calisto MT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Calisto MT"/>
                <a:ea typeface="Calisto MT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Calisto MT"/>
                <a:ea typeface="Calisto MT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Calisto MT"/>
                <a:ea typeface="Calisto MT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Calisto MT"/>
                <a:ea typeface="Calisto MT"/>
              </a:rPr>
              <a:t>	</a:t>
            </a:r>
            <a:r>
              <a:rPr b="0" lang="en-US" sz="1600" spc="-1" strike="noStrike">
                <a:solidFill>
                  <a:srgbClr val="402000"/>
                </a:solidFill>
                <a:latin typeface="Calisto MT"/>
                <a:ea typeface="Calisto MT"/>
              </a:rPr>
              <a:t>	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OINT OF VIEW IN POET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OE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poet is the author of the poem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PEAK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speaker of the poem is the “narrator” of the poem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077320" y="54864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TENDED METAPHOR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              POE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907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Flaming Poetry”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Author Unknown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         Poetr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is lik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flames,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which ar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wift and elusiv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dodging realization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parks, like words on th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paper, leap and dance in th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flickering firelight.  The fier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ongues, formless and shifting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hapes tease the imagination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Yet for those who see,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hrough their mind'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eye, they bur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up the page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01000" y="380880"/>
          <a:ext cx="66672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380880"/>
                    <a:ext cx="6667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MPLIED METAPHO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comparison is hinted at but not clearly stated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Examples: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Golden baked skin”, comparing bakery goods to skin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Green blades of nausea”, comparing green grass to the pallor of a nausea-stic person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Leafy golden sunset” comparing the sunset to a tree in the fall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he poison sacs of the town began to manufacture venom, and the town swelled and puffed with the pressure of it.” from </a:t>
            </a:r>
            <a:r>
              <a:rPr b="0" lang="en-US" sz="1600" spc="-1" strike="noStrike" u="sng">
                <a:solidFill>
                  <a:srgbClr val="402000"/>
                </a:solidFill>
                <a:uFillTx/>
                <a:latin typeface="Times New Roman"/>
              </a:rPr>
              <a:t>The Pearl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by John Steinbeck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05" name="Picture 4" descr="C:\Program Files\Microsoft Office\Clipart\standard\stddir1\BD05208_.WMF"/>
          <p:cNvPicPr/>
          <p:nvPr/>
        </p:nvPicPr>
        <p:blipFill>
          <a:blip r:embed="rId1"/>
          <a:stretch/>
        </p:blipFill>
        <p:spPr>
          <a:xfrm>
            <a:off x="6781680" y="5105520"/>
            <a:ext cx="2057400" cy="15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8001000" y="380880"/>
          <a:ext cx="666720" cy="98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380880"/>
                    <a:ext cx="6667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YPERBOL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ggeration often used for emphasi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Examples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I am so hungry; I could eat a horse! (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I am hungry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se books 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weigh a ton (They are heavy.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I'm 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doing over 9,000 things right now. (I'm busy.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is cat smells like 50,000,000 years worth of spoiled milk!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he cat smells bad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 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DIO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 expression where the literal meaning of the words is not the meaning of the expression.  It means something other than what it actually say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.  It’s raining cats and dog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ERSONIFIC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n animal given human-like qualities or an object given life-like qualitie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81280" y="1600200"/>
            <a:ext cx="5181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*Opportunity knocked on the door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*The sun greeted me this morning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*Snow had wrapped a white blanket over the city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*Time never waits for anyon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*Trees were dancing with the wind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*The TV sprang to lif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*The picture in that magazine shouted for attention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* Sun was playing hide and seek, amidst the clouds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NOMATOPOE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ds that imitate the sound they are na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UZZ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R sounds that imitate another soun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lken,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d, un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rtain, ru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ling of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ach purple curtain . . .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1447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LLITER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Consonan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sounds repeated at the beginnings of wor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ter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per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 p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cked a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ck of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ckled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ppers, how many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ckled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ppers did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ter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per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ck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257800" y="4648320"/>
            <a:ext cx="181764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YMBOLIS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en a person, place, thing, or event that has meaning in itself also represents, or stands for, something els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52880" y="182844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=    Innocence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=      Americ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=          Peace     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66720" cy="984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Program Files\Microsoft Office\Clipart\standard\stddir4\SO00962_.wmf"/>
          <p:cNvPicPr/>
          <p:nvPr/>
        </p:nvPicPr>
        <p:blipFill>
          <a:blip r:embed="rId2"/>
          <a:stretch/>
        </p:blipFill>
        <p:spPr>
          <a:xfrm>
            <a:off x="5105520" y="1981080"/>
            <a:ext cx="1420560" cy="1616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Program Files\Microsoft Office\Clipart\standard\stddir1\AN02608_.wmf"/>
          <p:cNvPicPr/>
          <p:nvPr/>
        </p:nvPicPr>
        <p:blipFill>
          <a:blip r:embed="rId3"/>
          <a:stretch/>
        </p:blipFill>
        <p:spPr>
          <a:xfrm>
            <a:off x="4952880" y="3276720"/>
            <a:ext cx="1836720" cy="134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C:\Program Files\Microsoft Office\Clipart\Pub60Cor\SO00190_.wmf"/>
          <p:cNvPicPr/>
          <p:nvPr/>
        </p:nvPicPr>
        <p:blipFill>
          <a:blip r:embed="rId4"/>
          <a:stretch/>
        </p:blipFill>
        <p:spPr>
          <a:xfrm>
            <a:off x="4724280" y="4572000"/>
            <a:ext cx="206388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LLUS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llusion comes from the verb “allude” which means “to refer to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n allusion is a reference to something famou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 tunnel walled and overlai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ith dazzling crystal:  we had read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f rare Aladdin’s wondrous cave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nd to our own his name we gav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rom “Snowbound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John Greenleaf Whitti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MAGE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uthor’s use of words to create mental pictures or images that communicate experiences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  <a:ea typeface="ＭＳ Ｐゴシック"/>
              </a:rPr>
              <a:t>Language that appeals to the senses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Most images are visual, but they can also appeal to the senses of sound, touch, taste, or smell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Example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66720" cy="9842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2743200" y="41911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9601200" y="4267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2209680" y="4419720"/>
            <a:ext cx="556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n with cracked hands that ach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rom labor in the weekday weather . . 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rom  “Those Winter Sundays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OETRY FORM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RM - the appearance of the words on the pag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LINE -  a group of words together on one line of the poe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TANZA - a group of lines arranged togeth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 word is dea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en it is said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me say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 say it jus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egins to liv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at day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841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Poetry Matter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44" name="55:Users:proundy:Desktop:Poetry_Matters.mov" descr=""/>
          <p:cNvPicPr/>
          <p:nvPr/>
        </p:nvPicPr>
        <p:blipFill>
          <a:blip r:embed="rId1"/>
          <a:stretch/>
        </p:blipFill>
        <p:spPr>
          <a:xfrm>
            <a:off x="2844720" y="23623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5"/>
          <p:cNvSpPr/>
          <p:nvPr/>
        </p:nvSpPr>
        <p:spPr>
          <a:xfrm>
            <a:off x="2133720" y="563868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ita Dove, Poet Laureate of the United States 1993-199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001000" y="380880"/>
          <a:ext cx="666720" cy="98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380880"/>
                    <a:ext cx="6667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143000" y="457200"/>
          <a:ext cx="666720" cy="98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3000" y="457200"/>
                    <a:ext cx="6667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YOUR Thoughts on Poetry!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907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 your writer’s notebook, answer the following questions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 your own words, what is poetry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o is your favorite poet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at is your favorite poem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at are your reasons for your like or dislike of poetry? Explai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et’s Try It!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NALYZING POET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53" name="55:Users:proundy:Desktop:fast_car.mp3" descr=""/>
          <p:cNvPicPr/>
          <p:nvPr/>
        </p:nvPicPr>
        <p:blipFill>
          <a:blip r:embed="rId1"/>
          <a:stretch/>
        </p:blipFill>
        <p:spPr>
          <a:xfrm>
            <a:off x="6477120" y="838080"/>
            <a:ext cx="2423880" cy="11113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4"/>
          <p:cNvSpPr/>
          <p:nvPr/>
        </p:nvSpPr>
        <p:spPr>
          <a:xfrm>
            <a:off x="1676520" y="16765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ast Cars” by Tracy Chapma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219320" y="2286000"/>
            <a:ext cx="3200400" cy="39639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0"/>
          <p:cNvSpPr/>
          <p:nvPr/>
        </p:nvSpPr>
        <p:spPr>
          <a:xfrm>
            <a:off x="6095880" y="28954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4952880" y="2286000"/>
            <a:ext cx="32004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KINDS OF STANZA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uple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two line stanz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riplet (Tercet)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three line stanz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Quatrain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four line stanz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Quinte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five line stanz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stet (Sextet)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six line stanz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pte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seven line stanz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ctav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 eight line stanz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 sound, word, phrase or line repeated regularly in a poem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Quoth the raven, ‘Nevermore.’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733920" y="3733920"/>
            <a:ext cx="180972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HYTH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90720" y="2155680"/>
            <a:ext cx="3809880" cy="3461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beat created by the sounds of the words in a poe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hythm can be created by meter, rhyme, alliteration and refrai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HY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ords sound alike because they share the same ending vowel and consonant sound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A word always rhymes with itself.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LAMP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TAMP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hare the short “a” vowel soun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hare the combined “mp” consonant soun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ND RHY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word at the end of one line rhymes with a word at the end of another lin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ector the Collect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llected bits of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tring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llected dolls with broken hea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d rusty bells that would not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ring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21:05:41Z</dcterms:created>
  <dc:creator>Lynn Dieter</dc:creator>
  <dc:description/>
  <dc:language>en-US</dc:language>
  <cp:lastModifiedBy>Philip  Roundy</cp:lastModifiedBy>
  <dcterms:modified xsi:type="dcterms:W3CDTF">2009-03-29T01:54:48Z</dcterms:modified>
  <cp:revision>32</cp:revision>
  <dc:subject/>
  <dc:title>POETRY</dc:title>
</cp:coreProperties>
</file>